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6C28-D333-4798-B889-BA72DC51C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5C9-490A-4461-ADE7-95A7434C7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8B25-14AF-4A33-A2B8-22D427A02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5B3D-3D1B-4F7B-83B9-FD864AE18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lass follow the transfer of heat and energy that causes atmospheric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F810-677F-46E3-91FD-59B05EB6E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89CE-D82C-4481-B3FA-911DBCB2B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89B-4A2F-4A25-BB0B-9B840A50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258-F97F-4843-B21B-E381E391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AA0-8876-405B-95C3-8F1AA1F9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7CE-8F2E-4969-AED0-E27067A8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7B1-2486-480A-84E2-63A6FBD1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B72-D592-4516-80DD-06919BFB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B33-D7FE-4871-840B-A25F859E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639-7554-4CA1-99A8-BD1BBBC1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4CC-B0A5-4AD9-82D8-C997EE1E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B1B-021A-4BB8-801C-94D009C2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592-B01D-4E99-9E79-B2907D2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34A-6C8C-4A51-8855-8CC7650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737C-C25F-448A-9282-1C5B533A0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The Water Cycle and Carbon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processes in the carbon cycle and water cycle that are related to each of the causal prin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Carbon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0" y="658188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resources.edb.gov.hk/biology/english/images/environment/carbon_cycle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arbon_cycle2.jpg"/>
          <p:cNvPicPr/>
          <p:nvPr/>
        </p:nvPicPr>
        <p:blipFill>
          <a:blip r:embed="rId1"/>
          <a:stretch/>
        </p:blipFill>
        <p:spPr>
          <a:xfrm>
            <a:off x="457200" y="609480"/>
            <a:ext cx="8147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ycle Process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6" name="Picture 4" descr="FIGURESCIRCACTIVITY.png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57200" y="62485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EDIT and add in ocean to this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Cyc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7:32:13Z</dcterms:created>
  <dc:creator>Julie Libarkin</dc:creator>
  <dc:description/>
  <dc:language>en-US</dc:language>
  <cp:lastModifiedBy>Nicole LaDue</cp:lastModifiedBy>
  <dcterms:modified xsi:type="dcterms:W3CDTF">2010-12-21T19:57:48Z</dcterms:modified>
  <cp:revision>305</cp:revision>
  <dc:subject/>
  <dc:title>PowerPoint Presentation</dc:title>
</cp:coreProperties>
</file>